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C5F-399A-42FE-B41F-5697577C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128-3F36-4E3A-9F4B-0E0CC1C2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39B-82E9-44E5-81B3-1A6975DB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3EE-8360-4776-8690-CA4ACFC6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A2D-6FD8-4A9A-94A2-7C7AFF48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E81-F40D-48F3-A6A9-22F6A27C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3AB-0131-4E95-BC87-7C43BAA9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1E4-4452-4DCB-B361-82EED787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D3D-0C61-414D-AA12-A1495F12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3E2-555C-4222-88BE-FBC36856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A7B-5A0E-4459-B970-943D89E0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64F-F304-4155-B537-485D0ED6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3145-0BE1-40B8-9B5E-6E576F0275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371600"/>
            <a:ext cx="770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Lesson 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One good turn deserves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D05545_" descr=""/>
          <p:cNvPicPr/>
          <p:nvPr/>
        </p:nvPicPr>
        <p:blipFill>
          <a:blip r:embed="rId2"/>
          <a:stretch/>
        </p:blipFill>
        <p:spPr>
          <a:xfrm>
            <a:off x="3124080" y="3276720"/>
            <a:ext cx="3338640" cy="3281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7560" y="345960"/>
            <a:ext cx="5752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 th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Where were you having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Who came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Did he once work in the lawyer’s off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How long ago was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Where is he working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Is he paid a good sal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What does he always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Do you think he needs to borrow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Does he ever pay it 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What did Tony do when he saw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Have you ever lent him any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Did you have dinner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What did you ask him during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.What did he give you immediat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Were you surpri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Did he pay for the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NA01441_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209680" cy="4495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760" y="95400"/>
            <a:ext cx="8920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ll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.dinner---restaurant---Tony Ste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.worked---lawyer’s office---now---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good salary---always borrows---his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ver---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saw me---came---sat---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.never borrowed---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While--- eating---asked---lend me twenty 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.surprised---gave me---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.”I---never---money---you,”Tony---,”so now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y---dinn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S00554_" descr=""/>
          <p:cNvPicPr/>
          <p:nvPr/>
        </p:nvPicPr>
        <p:blipFill>
          <a:blip r:embed="rId1"/>
          <a:stretch/>
        </p:blipFill>
        <p:spPr>
          <a:xfrm>
            <a:off x="6248520" y="5029200"/>
            <a:ext cx="244476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08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good turn deserves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a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awyer’s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 a good 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row…fr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t at the sam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my su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660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善有善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84120" y="144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餐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7340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律师事务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324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拿高工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83120" y="28954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向…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692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偿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380988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03920" y="4343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使我惊奇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487692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付钱买，付…的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76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360" y="220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 to use thes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serve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应得 值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好工作就该拿好报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些人值得我们帮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她应该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5080" y="3143160"/>
            <a:ext cx="54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work deserves good p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4280" y="428616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people deserves our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5000" y="5429160"/>
            <a:ext cx="373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deserved to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26000" y="324000"/>
            <a:ext cx="2562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ay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偿还  付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把那五英磅还给了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当他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owe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了钱总会还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2000" y="1238400"/>
            <a:ext cx="36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paid me th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2800" y="230508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owes money,he always p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7600" y="2914560"/>
            <a:ext cx="293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ay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付钱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买那本字典花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付给我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元把书买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买自行车花了多少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3120" y="3828960"/>
            <a:ext cx="59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paid 40 yuan for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480" y="48196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paid me 5 yuan for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7160" y="5810400"/>
            <a:ext cx="65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did you pay for the b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8520" y="304920"/>
            <a:ext cx="480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mmary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3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 was having dinner at a restaurant.I saw Tony Steele after a while.He always borrows money from his friends.Tony sat at my table.I asked him to lend me twenty pounds.He gave me the money at once.He wanted me to pay for his dinn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ove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1371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00:10:41Z</dcterms:created>
  <dc:creator/>
  <dc:description/>
  <dc:language>en-US</dc:language>
  <cp:lastModifiedBy>史流</cp:lastModifiedBy>
  <dcterms:modified xsi:type="dcterms:W3CDTF">2002-07-30T03:12:07Z</dcterms:modified>
  <cp:revision>10</cp:revision>
  <dc:subject/>
  <dc:title>PowerPoint 演示文稿</dc:title>
</cp:coreProperties>
</file>